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FD45-ABD1-4A17-B7F9-1B31EA2BA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7207-A197-4060-8A00-4E4E4FE5A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B17B-D163-43AF-9B81-F71E1480F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AC6-D737-4D19-974E-B126B868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FAA-FEF4-4FCA-8474-B7876282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786-D916-4C6E-81A1-E50E506E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1B5-D782-4B74-8100-6BE7A548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D42-B147-4914-BF4F-31FA88AF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94DE-D6BA-4175-9294-D07AD993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888-5827-4DC4-AB28-84EF7094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027-797E-4756-BF7E-264AD35C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6A2-15AA-437D-A111-CDDB1314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2DC-FC59-4B27-9364-F8A857A1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AD2-56BA-4C14-B84F-28D32BDD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138-CFFA-4DD9-A1E6-F9DD22BB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FB4F-AE29-4458-A138-74360EBE3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9051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emocionada y content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27" descr=""/>
          <p:cNvPicPr/>
          <p:nvPr/>
        </p:nvPicPr>
        <p:blipFill>
          <a:blip r:embed="rId1"/>
          <a:stretch/>
        </p:blipFill>
        <p:spPr>
          <a:xfrm>
            <a:off x="2736720" y="3529080"/>
            <a:ext cx="4078440" cy="1251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Maninder, si tu puedes comer mis chocolates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 Masiel! ¿Me puede dar un chocolate por favo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aninder, y si yo quiero ir. Te voy manna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 amiga! ¿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3434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ia! Estoy feliz y anciosia para estar contigo hoy! Mi dia es maravilloso hoy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Pero qùe haces, estas lista? Este dia va a estar divertido. Tu eres muy alta so m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Voy a poner botas. Somos como hermanas y te quiero much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19051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1981080" y="19051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emocionada y content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27" descr=""/>
          <p:cNvPicPr/>
          <p:nvPr/>
        </p:nvPicPr>
        <p:blipFill>
          <a:blip r:embed="rId1"/>
          <a:stretch/>
        </p:blipFill>
        <p:spPr>
          <a:xfrm>
            <a:off x="2736720" y="3736800"/>
            <a:ext cx="4078440" cy="828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7"/>
          <p:cNvSpPr/>
          <p:nvPr/>
        </p:nvSpPr>
        <p:spPr>
          <a:xfrm>
            <a:off x="2819520" y="3352680"/>
            <a:ext cx="39621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tanbiem pero yo quiero correr, escribir, usar mi telephono, aprender com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ocinar, cantar y desayunar porqùe tengo mucha hambr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cansada hoy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telephono es 718-976-9954 y ahora ya no estoy cansada.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2666880" y="5181480"/>
            <a:ext cx="441972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Somos muy buenas amigas no? David y Emily estan muy contentas porque som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Viejas amigas. Tu eres muy alta tambien! David y Emily son altos tamb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mos guntas por siempre. Y te extraño. Este perro que compramos te extrañ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2666880" y="6248520"/>
            <a:ext cx="4419720" cy="7617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nemos muchos años juntos por eso te quiero bastante. Tu tienes una buena personalidad. Emily me es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sperando. Sus amigas son sympaticas. Ellas tienen muchas ropa que me gusta. Pero no me abburen, qu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8:16Z</dcterms:modified>
  <cp:revision>109</cp:revision>
  <dc:subject/>
  <dc:title>Profile</dc:title>
</cp:coreProperties>
</file>